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701C-9440-4A1C-9EBF-E2BEC885E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812232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0840" y="4000320"/>
            <a:ext cx="812232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0AF5-42B6-45D3-91D0-D0FD591E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084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16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EBAF-EB9B-4694-A778-604683555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6920" y="182484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3360" y="182484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0840" y="400032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6920" y="400032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3360" y="400032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AFB4-AC40-4933-8B27-22C6DC062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08ED-5E84-46E1-BD01-16297C1FA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10840" y="1824840"/>
            <a:ext cx="8122320" cy="416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E759-0150-4DFC-87FD-8F889ED4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812232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990A-6D09-4E84-926E-2AE9ADAE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E08A-A76C-4ABB-A6FD-3516E7C2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2AAB-5BCB-4B1B-BF43-BF55E5B1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912680" y="269640"/>
            <a:ext cx="6975000" cy="478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73B6-0695-4ABB-BA41-1DB81993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084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8F57-E2E2-46D5-A160-B29591C9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10840" y="1824840"/>
            <a:ext cx="8122320" cy="416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DA82-BD97-4C2F-98E2-6CFAC547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16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A613-FB43-404C-8A6D-139845A2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0840" y="4000320"/>
            <a:ext cx="812232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0F72-BC7F-447F-8227-0FF3B75F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812232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840" y="4000320"/>
            <a:ext cx="812232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A7AF-7930-4E50-801B-A208398F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084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16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8E3F-C8FC-446E-B7ED-59B403D52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56920" y="182484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3360" y="182484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0840" y="400032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56920" y="400032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3360" y="400032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F8C6-20B6-452B-A83C-2BDAF539A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70D78-156A-4615-917E-431324873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10840" y="1824840"/>
            <a:ext cx="8122320" cy="416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CE8D1-E0B3-4759-9A03-AE58EBA0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812232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95D1D-5D48-42B9-90BC-FCD6F472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49C68-C274-4485-8CCD-07A1F34D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85AA5-AFC7-4F7F-B5A4-F3A1290D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812232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EE21-2A13-470F-84B7-62DDB644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912680" y="269640"/>
            <a:ext cx="6975000" cy="478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98851-8952-4F68-AA8C-A83B1391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084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7C446-C246-4E34-A6F5-8BE364A7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316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FB030-6E68-4AD2-B9D1-0F449988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0840" y="4000320"/>
            <a:ext cx="812232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F7F61-E6C3-4141-A5DC-3069BE80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812232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0840" y="4000320"/>
            <a:ext cx="812232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1F548-6AFB-4EBB-96AE-F174BCCA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084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316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DB71F-FC25-40CC-B4FB-5CCCAAEAB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56920" y="182484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03360" y="182484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10840" y="400032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56920" y="400032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03360" y="400032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F11CF-77AB-4897-AB89-3ABC7083D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3478-D77C-4949-B8A4-ED2E0873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935E-A8CE-4231-9AA0-0AF6653D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12680" y="269640"/>
            <a:ext cx="6975000" cy="478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6CEA-EB27-478B-855E-D82005CE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84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0C90-9E91-4FB3-9B61-65FCC869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16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30F8-80FD-4EF4-95E1-7C1ECA50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0840" y="4000320"/>
            <a:ext cx="812232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747B-9BA5-44AB-8CD0-2B8A5455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0840" y="1824840"/>
            <a:ext cx="8122320" cy="416484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AE44-5AED-4C8B-BA7A-E260B54BD7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Блок-схема: задержка 6"/>
          <p:cNvSpPr/>
          <p:nvPr/>
        </p:nvSpPr>
        <p:spPr>
          <a:xfrm>
            <a:off x="142920" y="142920"/>
            <a:ext cx="1714320" cy="1357200"/>
          </a:xfrm>
          <a:prstGeom prst="flowChartDelay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Рисунок 7" descr="7d246940b435.png"/>
          <p:cNvPicPr/>
          <p:nvPr/>
        </p:nvPicPr>
        <p:blipFill>
          <a:blip r:embed="rId2"/>
          <a:stretch/>
        </p:blipFill>
        <p:spPr>
          <a:xfrm>
            <a:off x="285840" y="214200"/>
            <a:ext cx="1247760" cy="120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10840" y="1824840"/>
            <a:ext cx="8122320" cy="416484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9637-CA37-4761-A2AE-9B5CCC6ABA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10840" y="1824840"/>
            <a:ext cx="8122320" cy="416484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F406-DE49-4231-A6A6-D8D3E5B114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2920" y="2492280"/>
            <a:ext cx="7629120" cy="1326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ba42c"/>
                </a:solidFill>
                <a:latin typeface="Times New Roman"/>
              </a:rPr>
              <a:t>ЭКОЛОГИЧЕСКАЯ СУКЦЕССИЯ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89520" y="279360"/>
            <a:ext cx="8488800" cy="121212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ВОЙСТВА СУКЦЕССИОННЫХ ИЗМЕНЕНИ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74760" y="1824480"/>
            <a:ext cx="8358840" cy="230112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исходит снижение скорости прироста биомассы сообщества (продукции сообщества) и в увеличении количества энергии, требуемой для поддержания его жизни. Это наиболее важное явление сукцессии. На ранних стадиях первичной сукцессии скорость прироста биомассы растениями высока, но на последующих стадиях она падает.</a:t>
            </a:r>
            <a:endParaRPr b="1" lang="en-US" sz="2400" spc="-1" strike="noStrike">
              <a:solidFill>
                <a:srgbClr val="00b050"/>
              </a:solidFill>
              <a:latin typeface="Calibri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rcRect l="6220" t="19528" r="5827" b="16273"/>
          <a:stretch/>
        </p:blipFill>
        <p:spPr>
          <a:xfrm>
            <a:off x="2484360" y="4437000"/>
            <a:ext cx="3936960" cy="215604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871880" y="2289240"/>
            <a:ext cx="3647880" cy="155880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b05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то произойдёт с сообществом  при постепенном зарастании озера?</a:t>
            </a:r>
            <a:endParaRPr b="1" lang="en-US" sz="2400" spc="-1" strike="noStrike">
              <a:solidFill>
                <a:srgbClr val="00b050"/>
              </a:solidFill>
              <a:latin typeface="Calibri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rcRect l="2288" t="0" r="824" b="0"/>
          <a:stretch/>
        </p:blipFill>
        <p:spPr>
          <a:xfrm>
            <a:off x="179280" y="333360"/>
            <a:ext cx="4445280" cy="612144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5158080" y="630720"/>
            <a:ext cx="3363120" cy="285984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b05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смотря на то, что биогеоценозы являются устойчивыми и саморегулирующимися системами, происходит постепенная смена менее устойчивых биогеоценозов на более устойчивые. </a:t>
            </a:r>
            <a:endParaRPr b="1" lang="en-US" sz="2000" spc="-1" strike="noStrike">
              <a:solidFill>
                <a:srgbClr val="00b050"/>
              </a:solidFill>
              <a:latin typeface="Calibri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681800" cy="3511800"/>
          </a:xfrm>
          <a:prstGeom prst="rect">
            <a:avLst/>
          </a:prstGeom>
          <a:ln w="9360">
            <a:solidFill>
              <a:srgbClr val="118950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250920" y="4365720"/>
            <a:ext cx="8713800" cy="1584360"/>
          </a:xfrm>
          <a:prstGeom prst="roundRect">
            <a:avLst>
              <a:gd name="adj" fmla="val 16667"/>
            </a:avLst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следовательная смена одних сообществ другими на определенной территории носит названи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экологической сукцесси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912680" y="269640"/>
            <a:ext cx="6975000" cy="103140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ЕРВИЧНАЯ СУКЦЕССИ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61080" y="1675440"/>
            <a:ext cx="8421840" cy="139104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b05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укцессия, которая начинается на абсолютно лишенном жизни месте, называетс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вично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b050"/>
              </a:solidFill>
              <a:latin typeface="Calibri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2"/>
          <a:srcRect l="0" t="16301" r="0" b="0"/>
          <a:stretch/>
        </p:blipFill>
        <p:spPr>
          <a:xfrm>
            <a:off x="1042920" y="3573360"/>
            <a:ext cx="7020000" cy="2711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912680" y="269640"/>
            <a:ext cx="6975000" cy="103140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ТОРИЧНАЯ СУКЦЕССИ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60720" y="1675440"/>
            <a:ext cx="8456760" cy="139104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b05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сли сообщество развивается на месте, где существовал хорошо развитый биоценоз, то сукцессия буде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торично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b05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403280" y="3429000"/>
            <a:ext cx="6191280" cy="2990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47920" y="268200"/>
            <a:ext cx="8100720" cy="147132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ДОЛЖИТЕЛЬНОСТЬ СУКЦЕССИИ ОПРЕДЕЛЯЕТС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rcRect l="34615" t="30699" r="13370" b="23102"/>
          <a:stretch/>
        </p:blipFill>
        <p:spPr>
          <a:xfrm>
            <a:off x="1042920" y="1989000"/>
            <a:ext cx="712800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39800" y="269640"/>
            <a:ext cx="8147880" cy="103140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ДОЛЖИТЕЛЬНОСТЬ СУКЦЕССИ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95640" y="1710000"/>
            <a:ext cx="8386920" cy="204012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одолжительность основных стадий вторичной сукцессии в умеренном климате:</a:t>
            </a:r>
            <a:endParaRPr b="1" lang="en-US" sz="1800" spc="-1" strike="noStrike">
              <a:solidFill>
                <a:srgbClr val="00b050"/>
              </a:solidFill>
              <a:latin typeface="Calibri"/>
            </a:endParaRPr>
          </a:p>
          <a:p>
            <a:pPr indent="1857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ервая – травянистая растительность – около 10 лет</a:t>
            </a:r>
            <a:endParaRPr b="1" lang="en-US" sz="1800" spc="-1" strike="noStrike">
              <a:solidFill>
                <a:srgbClr val="00b050"/>
              </a:solidFill>
              <a:latin typeface="Calibri"/>
            </a:endParaRPr>
          </a:p>
          <a:p>
            <a:pPr indent="1857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торая – кустарники – 10-25 лет</a:t>
            </a:r>
            <a:endParaRPr b="1" lang="en-US" sz="1800" spc="-1" strike="noStrike">
              <a:solidFill>
                <a:srgbClr val="00b050"/>
              </a:solidFill>
              <a:latin typeface="Calibri"/>
            </a:endParaRPr>
          </a:p>
          <a:p>
            <a:pPr indent="1857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ретья – лиственные деревья – 25-100 лет</a:t>
            </a:r>
            <a:endParaRPr b="1" lang="en-US" sz="1800" spc="-1" strike="noStrike">
              <a:solidFill>
                <a:srgbClr val="00b050"/>
              </a:solidFill>
              <a:latin typeface="Calibri"/>
            </a:endParaRPr>
          </a:p>
          <a:p>
            <a:pPr indent="1857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четвертая – хвойные деревья – более 100 лет</a:t>
            </a:r>
            <a:endParaRPr b="1" lang="en-US" sz="1800" spc="-1" strike="noStrike">
              <a:solidFill>
                <a:srgbClr val="00b050"/>
              </a:solidFill>
              <a:latin typeface="Calibri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1116000" y="3886200"/>
            <a:ext cx="702000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9520" y="279360"/>
            <a:ext cx="8488800" cy="121212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ВОЙСТВА СУКЦЕССИОННЫХ ИЗМЕНЕНИ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5680" y="1878120"/>
            <a:ext cx="8397000" cy="195012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ды растений и животных в процессе сукцессии непрерывно сменяются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менение видового состава часто определяется соперничеством разных видов за одни и те же пищевые или иные ресурсы; ведь происходящие в ходе сукцессии изменения экосистемы создают благоприятные условия для колонизации сообщества новыми видами.</a:t>
            </a:r>
            <a:endParaRPr b="1" lang="en-US" sz="2400" spc="-1" strike="noStrike">
              <a:solidFill>
                <a:srgbClr val="00b05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89520" y="279360"/>
            <a:ext cx="8488800" cy="121212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ВОЙСТВА СУКЦЕССИОННЫХ ИЗМЕНЕНИ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36240" y="1785600"/>
            <a:ext cx="8435880" cy="158580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05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укцессионные изменения всегда сопровождаются повышением видового богатства, т.е. разнообразия организмов.</a:t>
            </a:r>
            <a:endParaRPr b="1" lang="en-US" sz="2400" spc="-1" strike="noStrike">
              <a:solidFill>
                <a:srgbClr val="00b050"/>
              </a:solidFill>
              <a:latin typeface="Calibri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250920" y="3860640"/>
            <a:ext cx="8713800" cy="217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9520" y="279360"/>
            <a:ext cx="8488800" cy="121212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ВОЙСТВА СУКЦЕССИОННЫХ ИЗМЕНЕНИ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17160" y="1766520"/>
            <a:ext cx="8474040" cy="123516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исходит увеличение биомассы органического вещества. Население сообщества как бы уплотняется по мере увеличения видового богатства. </a:t>
            </a:r>
            <a:endParaRPr b="1" lang="en-US" sz="2400" spc="-1" strike="noStrike">
              <a:solidFill>
                <a:srgbClr val="00b05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06:29:43Z</dcterms:created>
  <dc:creator>Admin</dc:creator>
  <dc:description/>
  <dc:language>en-US</dc:language>
  <cp:lastModifiedBy>Admin</cp:lastModifiedBy>
  <dcterms:modified xsi:type="dcterms:W3CDTF">2013-03-10T14:10:21Z</dcterms:modified>
  <cp:revision>28</cp:revision>
  <dc:subject/>
  <dc:title>Слайд 1</dc:title>
</cp:coreProperties>
</file>